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16535"/>
        <c:axId val="11383599"/>
      </c:barChart>
      <c:catAx>
        <c:axId val="97616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83599"/>
        <c:crosses val="autoZero"/>
        <c:auto val="1"/>
        <c:lblAlgn val="ctr"/>
        <c:lblOffset val="100"/>
        <c:noMultiLvlLbl val="0"/>
      </c:catAx>
      <c:valAx>
        <c:axId val="11383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16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279-6801-440F-9759-15861E4C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7FA-A87E-418A-A716-0FA14132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7BD-4998-404C-8FBC-D1018883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355-168A-4404-BF37-9F16E2EE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250-8500-41C3-80A4-C8737C1C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187-19BB-4711-B108-8B7F3153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0A8-4CAD-4D5B-BA1F-125CB884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04A-BF68-4420-83F1-7D76AFC8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FD6-4057-4367-87DC-1848ED40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8F1-CFB1-4008-8C36-CBE46831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9EA-7F1F-45C9-A864-F19DA602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54D-D241-4D82-8599-C65B0590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F2BC5-6174-471F-8B31-2B28209934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