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992534"/>
        <c:axId val="12524450"/>
      </c:barChart>
      <c:catAx>
        <c:axId val="869925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524450"/>
        <c:crosses val="autoZero"/>
        <c:auto val="1"/>
        <c:lblAlgn val="ctr"/>
        <c:lblOffset val="100"/>
        <c:noMultiLvlLbl val="0"/>
      </c:catAx>
      <c:valAx>
        <c:axId val="125244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9925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944B-396F-4657-B080-7E9FBDD78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5D9A-CDB2-4A6E-8FFD-ED16907D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3809-4375-4BD8-A133-E7F9AFC83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19D6-14AF-430E-82EA-0197EE117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0E3B-3377-458A-813A-4FCD7010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60DB-D208-43EA-8DB0-834EA2C5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7B50-1A1B-4BEC-894D-D0399E62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F163-CC20-42AF-9D43-FE7D09D0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5BA5-B900-4AC3-87B1-616A4BAC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1D41-5BCC-42F6-947C-4E35689E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F578-107E-45AC-BD5F-0053C7E6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23C0-AD43-41BF-834B-C4C180E8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D414E9-4CEC-45B3-8408-79D550EE95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